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0F6-724C-406A-88AE-D332C32C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D07-80F7-4213-9CE7-12400D9B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1A1-1A23-42A5-BC3D-3CEFA61C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900-77E4-43D1-B11B-CFD06BF0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987-5B5A-4370-97B3-8F9CAE6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0A3-7FC1-4FC7-B209-60E6B12C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6D7-FA79-4173-A993-B9BE919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77F-EAFB-4574-8711-F132C900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57D-D7BA-4360-892A-2B39C2AA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F98-07A9-44CC-9F3A-C3E948F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E74-4877-41E9-95FA-4CD8DDDE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855-9EDD-42FF-89E4-023C826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C01-6676-4BEB-9052-30865B1FD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假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假人必须有急事（家中父母已打电话）或生病或老师作统一要求方可请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假人必须写假条，假条中说明请假缘由、请假时间时间、回校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是住校生必须持假条到宿舍科登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假人必须按时到校，否则作旷课处理，且以后不得请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纪律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任何人不得迟到、早退、缺席。不随意串门或带其他同学到班级门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任何人不许将通迅工具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各种球、课外书籍、充电器、吃物等带到班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任何人上课必须认真听讲、记好课堂笔记，积极思考老师布置的作业；不许随意讲话、大声喧哗；不许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习课、晚自习认真做好作业，做好预习工作；不得随意讲话、不得随意下座位或外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周六晚自习全体住校生必须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前到班级自习，认真做好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周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5—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—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班级自习，整理一周学习资料，做好错题订正集，做好个人资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卫生、值日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值日生必须认真值日，一日三扫，保证班级清洁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天值日负责人要勤看看，多走走，卫生班长做好监督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一位同学必须注意个人卫生，不随意吐痰，要保证自己周围清洁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作业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一位同学必须要全力以赴认真学习，要学好每一门功课，要有信心、有计划、有目标，有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业必须认真、及时、独立完成。严格按照老师要求去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上课必须认真听讲，自习课要认真做作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态度决定一切 希望就在前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让我们拥抱高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摆正态度远比做好一件事本身效用大得多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只老鼠一同去偷油。它们决定叠罗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轮流喝。而当其中一只老鼠刚爬到另外两只的肩膀上，“胜利”在望之时，不知什么原因，油瓶倒了，引来了人，它们落荒而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到鼠窝，它们开了一个会，讨论失败原因。最上面的老鼠说：“因为下面的老鼠抖了一下，所以我碰倒了油瓶。”中间那只老鼠说：“我感觉到下面的老鼠抽搐了一下，于是，我抖了一下。”而最下面的老鼠说：“我好像听见有猫的叫声，所以抽搐了一下。”原来如此——谁都没有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实中，经常能遇到类似的情境。在某企业的季度会议上就可以听到类似的推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摆正态度远比做好一件事本身效用大得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营销部经理说：“最近销售不好，我们有一定责任。但主要原因是，对手推出的新产品比我们的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发经理“认真”总结道：“最近推出的新产品少是由于研发预算少。就这么一点预算还被财务部门削减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务经理马上接着解释：“公司成本在上升，我们没钱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时，采购经理跳起来说：“采购成本上升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由于俄罗斯一个生产铬的矿山爆炸了，导致不锈钢价格急速攀升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，大家异口同声地说：“原来如此。”言外之意便是：大家都没有责任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摆正态度远比做好一件事本身效用大得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家可曾问过自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为什么要学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为谁而学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学习跟我的前途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学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东西是我终身受益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摆正态度远比做好一件事本身效用大得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应该明白，我们永远是为自己学习的，可能听起来比较自私，难道我们不为我们的父母？难道我们不为我们的民族我们的国家？其实对个体来说，对每一个在我们这个社会生存的人来说，首先想到的就是自己。这是很正常的，当然我们要报答我们的父母，他们为我们奉献了一切，可是你要想让父母过上很好的生活，你需要什么？首先是物质方面的富裕，从哪里来？学习是你过上幸福生活的途径，我们不排除有其他途径，但是我可以说，这是最简单的途径。而且，假如你学习不好，以后没有好的生活，你的父母为你操心一辈子，这怎么能说是对我们的父母尽孝？所以，学习首先是一件个人的事情，当你个人做好了，同时就对周围的人产生了正的影响——经济学上讲叫正的外部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摆正态度远比做好一件事本身效用大得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我们的话题上，我们再来想，学习是什么？学习不是单纯的记忆问题，而是一种训练我们思维能力和提高我们个人素养的过程，一个胸无点墨的人是不会让人觉得很有教养的。学习，更大程度上是一种个人能力的提升，是一个人慢慢优秀起来的过程。我们的社会需要的是优秀人才，会不会学习就是一个衡量你是否是人才的标准。你要明白你所学的一切都会在将来成为你的一笔财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希望就在前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想清楚这些问题的时候，就应该下定决心了，我的生活我自己把握，我不需要别人在我身边教育我好好学习，我自己知道我的命运掌握在自己的手里，我为我的未来而努力。我为我自己负责。决心已定，那么就要认真起来。我通常说，世界上没有什么不可能，就怕你自己先胆怯了，那么可能也将沦为不可能。我们既然瞄准了一个目标，就应该义无反顾地走下去。这种单纯是多么美好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自信就是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说说信心问题，每个人都要相信自己，我们都是聪明的，我们应该庆幸自己有获得知识的能力。想一想世界上还有多少残困儿童没有这种机会，你们应该珍惜这个机会。每个人都是独特的，你一定能够同所有人一样优秀，别人能做到，你健健康康地为什么做不到呢？每个人都有无限的潜力可挖，问题在于你肯不肯用力，我希望大家每天早晨上学的时候，对着朝阳，微笑，并在心里默默地跟自己说：“我是最棒的，我一定会成功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4941720"/>
            <a:ext cx="828036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自信，我出色；我努力，我成功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37:17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3:27Z</dcterms:modified>
  <cp:revision>1</cp:revision>
  <dc:subject>主题班会课件(分28大类): http://shop62905894.taobao.com</dc:subject>
  <dc:title>主题班会课件(分28大类): http://shop62905894.taobao.com</dc:title>
</cp:coreProperties>
</file>